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DE65-FCC0-4B2F-A546-5CE8DC0A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CA08-1D23-4EA1-B789-7E301DE5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ED58-147B-4BE8-8750-19FCCB94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42A9-0E20-4D54-BF1F-5CADDC0C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D12F-52AF-4E24-9335-F35B70E3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EF82-1EEF-44F8-A7F6-9B050701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8500-CC15-471D-A676-97A12169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06FF-92F7-49B3-A10E-04D30134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0F61-28B4-41CE-AAFC-250581CD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E40A-A48C-4B6F-9161-D78AA644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C141-5EC7-4F3D-85C2-03AC8957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EEAB-9720-4445-B106-32AB7756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F428-C6B0-4830-A090-7172B52AD4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POLSKA  SZTUKA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ffffff"/>
                </a:solidFill>
                <a:latin typeface="Arial Black"/>
              </a:rPr>
              <a:t>REALNEGO   SOCJALIZMU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 Black"/>
              </a:rPr>
              <a:t>Oprac.Katarzyna Cichock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796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796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796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MDM              NOWA HUTA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93760" y="2147760"/>
            <a:ext cx="2565360" cy="3429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021280" y="1644480"/>
            <a:ext cx="3292560" cy="2097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43280" y="3933720"/>
            <a:ext cx="403884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103720" y="3938760"/>
            <a:ext cx="31258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351640" cy="612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Socrealizm zawsze i w każdej chwili służył socjalistycznej ojczyźnie .</a:t>
            </a:r>
            <a:r>
              <a:rPr b="1" lang="en-US" sz="28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pamiętniły to wszechobecne wtedy plakaty i hasła propagandow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4103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5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Przyjaźń polsko-radziecka to pokój, niezawisłość, szczęśliwe jutro naszej ojczyzny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!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84360" y="1989000"/>
            <a:ext cx="3240000" cy="4310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500720" y="2133720"/>
            <a:ext cx="43192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fd293"/>
                </a:solidFill>
                <a:latin typeface="Arial"/>
              </a:rPr>
              <a:t>Zbrodnicza szajka zdrajców i szpiegów narzędziem wojennych planów imperialistów</a:t>
            </a:r>
            <a:r>
              <a:rPr b="0" lang="en-US" sz="2000" spc="-1" strike="noStrike">
                <a:solidFill>
                  <a:srgbClr val="dfd293"/>
                </a:solidFill>
                <a:latin typeface="Arial"/>
              </a:rPr>
              <a:t> !</a:t>
            </a:r>
            <a:br>
              <a:rPr sz="2000"/>
            </a:br>
            <a:r>
              <a:rPr b="1" lang="en-US" sz="2000" spc="-1" strike="noStrike">
                <a:solidFill>
                  <a:srgbClr val="dfd293"/>
                </a:solidFill>
                <a:latin typeface="Arial"/>
              </a:rPr>
              <a:t>Imperialistyczny wróg kusi Cię Coca-Colą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!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2666880" cy="4029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118120" y="1600200"/>
            <a:ext cx="309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Pracując dla kraju, pracujesz dla siebie !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2879640" cy="3989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30956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000"/>
                            </p:stCondLst>
                            <p:childTnLst>
                              <p:par>
                                <p:cTn id="5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d293"/>
                </a:solidFill>
                <a:latin typeface="Arial"/>
              </a:rPr>
              <a:t>Socjalizm to ustrój, system społeczno-gospodarczy, </a:t>
            </a:r>
            <a:br>
              <a:rPr sz="2800"/>
            </a:br>
            <a:r>
              <a:rPr b="1" lang="en-US" sz="2800" spc="-1" strike="noStrike">
                <a:solidFill>
                  <a:srgbClr val="dfd293"/>
                </a:solidFill>
                <a:latin typeface="Arial"/>
              </a:rPr>
              <a:t>którego cechami są: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. w sferze politycznej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dyktatura proletaria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2.w sferze ekonomicznej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społeczna własność (czyli własność państwow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centralistyczny model zarządzania gospodark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dążenie do zaspokojenia potrzeb socjalny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zapewnienie obywatelom pracy, ochrony socjalnej i całej gamy bezpłatnych usłu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zasada podziału produktu społecznego wg ilości i jakosci p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Socjalizm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 miał zapoczątkować praktyczną realizację marksistowskiego ustroju i być okresem przejściowym (niższego stopnia) do komunizmu.</a:t>
            </a:r>
            <a:br>
              <a:rPr sz="1800"/>
            </a:b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Wszystko w kraju podporządkowano budowie socjalizmu.</a:t>
            </a:r>
            <a:endParaRPr b="0" lang="en-US" sz="1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k narodził się nowy kierunek w sztuce zwany realnym socjalizmem lu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realizm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go ojczyzną był Związek Radzieck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651640" y="1844640"/>
            <a:ext cx="2881080" cy="1655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580000" y="3933720"/>
            <a:ext cx="30574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8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98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28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fcd18"/>
                </a:solidFill>
                <a:uFillTx/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Ówcześni protagoniści prześcigali się w przekraczaniu norm produkcyjnych, w wydajności pra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zorem był przodownik pracy, walczący o plan, budujący socjaliz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budowy nowej, socjalistycznej Pols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przęgnięto sztukę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04000" y="333360"/>
            <a:ext cx="2089080" cy="3024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3280" y="3429000"/>
            <a:ext cx="2087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7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7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7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7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ZADANIA REALNEG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JALIZMU W SZTUCE: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Ukazywanie świata takim jakim miał być, jaki być powini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rzekazywanie socjalistycznych treści w narodowej form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Heroizacja p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Kult przodowników prac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3816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796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796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796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796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796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teraci i malarze pomagali budować socjalizm w Polsce tworząc dzieła zwane</a:t>
            </a:r>
            <a:r>
              <a:rPr b="1" lang="en-US" sz="28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cd18"/>
                </a:solidFill>
                <a:latin typeface="Arial"/>
              </a:rPr>
              <a:t>produkcyjniakami.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Tytuły mówią same za siebi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zy budowie” Tadeusza Konwickiego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raktory zdob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ą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wiosn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” Witold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alewskie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owarzysz Bierut w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ś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ód robotników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łodzimierza Zakrzewskie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rzodownica” Zbigniew Pronaszk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daj cegł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ę”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braz Aleksandra Kobzdej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98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98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98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Podaj cegłę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cd18"/>
                </a:solidFill>
                <a:latin typeface="Arial"/>
              </a:rPr>
              <a:t>„</a:t>
            </a:r>
            <a:r>
              <a:rPr b="0" lang="en-US" sz="4000" spc="-1" strike="noStrike">
                <a:solidFill>
                  <a:srgbClr val="0fcd18"/>
                </a:solidFill>
                <a:latin typeface="Arial"/>
              </a:rPr>
              <a:t>Inżynierami dusz”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zywano twórców literatury: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erz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ego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ndrzejewski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Władysława Broniewski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azimierz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Brandy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on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Kruczkowski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erz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ego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utrament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am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Wa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ż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k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Oni kształtowali umysł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0243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d293"/>
                </a:solidFill>
                <a:latin typeface="Arial"/>
              </a:rPr>
              <a:t>Sztukę i tworzących ją artystów wykorzystywano do celów politycznych, do podkreślenia prestiżu i splendoru władzy.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owstały monumentalne, eklektyczne budow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rszałkowska Dzielnica Mieszkaniowa w Warszawie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dzieło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. Knothe, J. Sigalin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S. St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i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ń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ki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ego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zbudow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any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mach sejmu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autorstwa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 Pniewski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owa Huta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1949-1953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T. Ptaszycki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z zespoł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ajbardziej okazałym obiektem socrealizmu został jednak Pałac Kultury i Nauki w Warszawi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1:28:43Z</dcterms:created>
  <dc:creator>student12c</dc:creator>
  <dc:description/>
  <dc:language>en-US</dc:language>
  <cp:lastModifiedBy>student12c</cp:lastModifiedBy>
  <dcterms:modified xsi:type="dcterms:W3CDTF">2002-11-08T12:42:05Z</dcterms:modified>
  <cp:revision>6</cp:revision>
  <dc:subject/>
  <dc:title>POLSKA  SZTUKA</dc:title>
</cp:coreProperties>
</file>